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72CE-E02F-4852-A796-B2B90B4E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3B8-B018-44EB-A4F9-4D369241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37D-A46A-49D6-B11D-2F550A32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214-2594-4BCE-BB3E-3939A23F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4B6-348C-4CFD-9769-C94BD387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559-B8BF-41A3-97F0-4C367059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84D9-D789-48DB-A910-9AA7DCDF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B7A-8EC5-43A9-B9D5-D2BADE9C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C84-0DDE-4CAB-8FE3-6C1BF024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A0BD-AE28-4AE0-AEAF-5B932C0A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332-5931-4492-9C15-95A40A10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124-5B52-4694-92DA-8B0F6715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3E48-B3A8-4880-8184-217383D71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He Reig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23960" y="41907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ds and Music by Peter Furler and Steve Tay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© Copyright 2003 Ariose Music (admin. by EMI CMG Publishing)/Soylent Tunes (admin. by ICG). All rights reserved. Used by permi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CLI # 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48720" y="603396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8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f all the bells ru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rom a thousand steepl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ne rings truer than th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’s all God’s children sing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lory, glory, halleluja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 reigns, He reigns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ing 4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all the powers of darknes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mble at what they’ve just hear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’Cause all the powers of darknes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’t drown out a single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’s all God’s children sing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lory, glory, halleluja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 reigns, He reigns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ing 3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’s all God’s children sing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lory, glory, halleluja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 reig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’s the song of the redeem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ising from the African pl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’s the song of the forgive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rowning out the Amazon r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289080"/>
            <a:ext cx="899136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ong of Asian believer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lled with God’s holy fi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’s every tribe, every tongu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ry nat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love song born of a grateful ch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’s all God’s children sing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lory, glory, halleluja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 reigns, He reigns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epeat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Let it rise above the four winds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ught up in the heavenly soun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t praises echo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rom the towers of cathedrals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 the faithful gathered undergroun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636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f all the songs su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rom the dawn of creati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me were meant to pers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TERRY</cp:lastModifiedBy>
  <dcterms:modified xsi:type="dcterms:W3CDTF">2008-07-16T22:41:3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